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3496-4B71-4BB6-B678-B8E6395E00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672A-3B65-4CA5-85EF-5A33FE7B05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552A-6B90-42FA-ACFE-810B6CB4D0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61AB-9BEF-41FB-8EB0-8222F60EC7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9BE8-55BE-45A6-A47A-E708806929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AFAA-0371-4F8A-9236-BA066CDAF8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2593-E813-44DB-9252-E441DA1C8D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57EC-F570-4421-AFA4-AB476794E9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2566-4A56-4C1B-9268-6E99DA05A8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AF54-CEE5-4DEF-940B-1CBAB6E9AB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0B0F-FDBF-4FD3-B7F8-C7330D9DC1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C59A-FA55-4F75-8318-C9BCCC60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10EE-6A0B-4B84-BF79-6EEF357F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A51-B4B4-4E8F-8E70-C345C3A4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4A8-7F0C-4CAC-B045-A7E3778A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6863-E976-469B-83E4-039F587B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579D-F417-4309-894C-78DFDA63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7D26-6B7A-4572-B2BF-819F8402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1631-618E-4C40-90DB-1405F168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9FEA-AF5C-4C72-937E-498DDB08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556-E6A1-43DE-8C1E-6AD4BB30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9811-6D33-4470-8FFB-E29D7DCA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BFD-90E1-42CF-AFBD-580B23F0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F0AF-681C-42F0-80C5-6A75B7320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752120" y="91404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Атмосфера, в которой проводятся встречи, очень важна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орудуйте помещение соответствующим освещением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системой вентиляции, чтобы в вашем помещении было ни жарко, и ни холод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Если возможно, рассаживайтесь в круг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видеть глаза друг друг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Постарайтесь изолировать домашних животных, телевизор и радио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ничто вам не доставляло неудобств.  Наймите нян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необходим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28240" y="28191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Назначьте руководителя группы, но и других членов поощряйте вносить предложения. Способствуйте созданию доброжелательного и поддерживающего отношения, а не духа соревнования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и критицизма. Активизируйтесь не вокруг лидера, а вокруг Библии.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828440" y="9140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Будьте чуткими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райтесь избегать конфузных ситуаци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Тем, кто будет доминировать 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                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и критиковать других людей, 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помогите быть деликатны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я молитвы и изучения Библии члены группы могут поделиться личной информацией.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И жизненно важно сохранять конфиденциальность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оминайте об этом каждый ра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676520" y="9907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План изучения позволит вам следовать направлению изучения 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        </a:t>
            </a: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и поддерживать в группе интерес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итая Слово Божь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давайте вопросы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же приведены примеры вопросо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тем дайте группе возможность ответить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Ободрение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ыражайте искреннюю благодарность за то, что члены группы делятся тем, чему научились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752480" y="685440"/>
            <a:ext cx="6934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Удерживайте внимание на главном</a:t>
            </a:r>
            <a:r>
              <a:rPr b="1" i="1" lang="en-US" sz="2700" spc="-1" strike="noStrike">
                <a:solidFill>
                  <a:srgbClr val="cc0000"/>
                </a:solidFill>
                <a:latin typeface="Calibri"/>
              </a:rPr>
              <a:t>.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дискуссия вышла за рамки темы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 можете сказать: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Что дискуссия была очень интересной. Возможно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мы сможем продолжить ее в другой раз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Поощряйте внимательное слушание</a:t>
            </a:r>
            <a:r>
              <a:rPr b="1" i="1" lang="en-US" sz="2700" spc="-1" strike="noStrike">
                <a:solidFill>
                  <a:srgbClr val="cc0000"/>
                </a:solidFill>
                <a:latin typeface="Calibri"/>
              </a:rPr>
              <a:t>.</a:t>
            </a:r>
            <a:r>
              <a:rPr b="0" lang="en-US" sz="27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удьте терпеливы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оставьте членам группы время на раздумье. Избегайте напряжения и конфликтов, указывая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Слово Божье как высший авторитет, вместо того, чтобы заниматься традиционными или нелогичными рассуждения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676520" y="68580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хотите найти ответ или попросить группу найти дополнительную информацию по теме,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не сомневаясь, говорите: Я не зна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Когда возможно, используйте видеоматериалы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дополнить ясн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Способствуйте поиску более точного ответа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вая вопросы, такие как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то было полезным во время изучения? Или что нового вы узна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10666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Изучение Библии может быть завершен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ене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молитвы, которое может включать в себя прославление, просьбу и благодаре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Побуждайте всех членов группы молить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ответстви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изучаемой темой или нуждами груп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:\DEPT\WM\_SHARED\2011 Adviosry Resources\Nurture-Empower-Outreach\EMPOWER\EVANGELISM MANUAL - EDITED\PP evangelism\Chapter 07 tex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2743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Молитвы могут быть краткими </a:t>
            </a:r>
            <a:r>
              <a:rPr b="1" i="1" lang="en-US" sz="3200" spc="-1" strike="noStrike">
                <a:solidFill>
                  <a:srgbClr val="f2f2f2"/>
                </a:solidFill>
                <a:latin typeface="Calibri"/>
              </a:rPr>
              <a:t>              </a:t>
            </a: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и спонтанными</a:t>
            </a:r>
            <a:r>
              <a:rPr b="1" i="1" lang="en-US" sz="3200" spc="-1" strike="noStrike">
                <a:solidFill>
                  <a:srgbClr val="f2f2f2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По мере увеличения количества членов группы составьте план создания другой груп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7 cover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581040"/>
            <a:ext cx="89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ajan Pro"/>
                <a:ea typeface="Calibri"/>
              </a:rPr>
              <a:t>ЕВАНГЕЛИЗМ </a:t>
            </a:r>
            <a:r>
              <a:rPr b="1" lang="ru-RU" sz="4000" spc="-1" strike="noStrike">
                <a:solidFill>
                  <a:srgbClr val="002060"/>
                </a:solidFill>
                <a:latin typeface="Trajan Pro"/>
                <a:ea typeface="Calibri"/>
              </a:rPr>
              <a:t>ДЛЯ КАЖД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5105520" y="1806480"/>
            <a:ext cx="41907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Глава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7.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Евангельская рабо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 помощью малых груп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029200" y="5877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Генера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6934320" y="5477040"/>
            <a:ext cx="609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7 text1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895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«Создание небольших групп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ля проведения христианской работы является частью плана, который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ыл развернут передо мною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Тем,    Кто никогда не заблуждается».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Евангелизм</a:t>
            </a:r>
            <a:r>
              <a:rPr b="1" i="1" lang="en-US" sz="36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тр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. 115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2666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«Если церковь большая, пусть ее члены сформируют небольшие группы, чтобы вместе трудиться не только для своих собратьев, но и для неверующих.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в каком-либо месте лишь двое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ли трое знают истину, то они должны составить группу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аботников».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–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видетельства для Церкви,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ом 7, стр.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7 text1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04920" y="2819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Совместное изучение Библии в малых группах прекрасный способ построения дружеских отношений и духовного возрастания. Один из самых успешных способов изучения Библии – способ малых групп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752480" y="1417680"/>
            <a:ext cx="7010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Одна из задач малых групп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по изучению Библии – создание атмосферы любви и принятия, которая будет способствовать новым открытиям и предоставит свободу выражать свое мнение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о Библии без страха осуждения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или критики. Подобная атмосфера поможет созиданию взаимоотношений между христианами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04560" y="2438280"/>
            <a:ext cx="84582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всего приглашать потенциальных членов малой группы лично.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Отнеситесь внимательно к тому, чтобы детально рассказать об изучении Библии, о том,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как вы его спланировали, где будут проводиться встречи и сколько недель продлится курс.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ин из способов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вы можете начать группу по изучению Библии – вы можете пригласить несколько соседей к вам домой для небольшого банке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209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Планируя проведение малой группы, важно уделить внимание пяти сферам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7339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1. Вступление</a:t>
            </a:r>
            <a:r>
              <a:rPr b="1" i="1" lang="en-US" sz="3000" spc="-1" strike="noStrike">
                <a:solidFill>
                  <a:srgbClr val="cc3300"/>
                </a:solidFill>
                <a:latin typeface="Calibri"/>
              </a:rPr>
              <a:t>.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накомств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2. Изучение Библии.</a:t>
            </a:r>
            <a:r>
              <a:rPr b="0" lang="ru-RU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учение Слова Божье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3. Молитв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сьба к Богу о помощ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4. Социальная активность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стреч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пределами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5. Служение.</a:t>
            </a:r>
            <a:r>
              <a:rPr b="0" lang="ru-RU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ужение тому, кто не является членом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676160" y="808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Целью малых групп является содействие изучению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ния Иисуса Христа и обретение радости от следования за Творц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Четко и доступно расскажите о цели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приступаете к изучению или социальной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Уделяйте время вступлению, просьбам </a:t>
            </a:r>
            <a:r>
              <a:rPr b="1" i="1" lang="en-US" sz="2400" spc="-1" strike="noStrike">
                <a:solidFill>
                  <a:srgbClr val="cc0000"/>
                </a:solidFill>
                <a:latin typeface="Calibri"/>
              </a:rPr>
              <a:t>              </a:t>
            </a: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о молитв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явлению интереса к членам вашей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Заранее спланируйте время на молитвы</a:t>
            </a:r>
            <a:r>
              <a:rPr b="0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переживаниях и нуждах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18:04Z</dcterms:created>
  <dc:creator/>
  <dc:description/>
  <dc:language>en-US</dc:language>
  <cp:lastModifiedBy/>
  <dcterms:modified xsi:type="dcterms:W3CDTF">2011-08-12T08:07:48Z</dcterms:modified>
  <cp:revision>0</cp:revision>
  <dc:subject/>
  <dc:title/>
</cp:coreProperties>
</file>